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B7D-A921-4707-BA8A-942D6A1E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FD-0A32-42AF-9FEA-D14F726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F57-24AA-495B-ABCE-5756429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3B9-63BA-42EB-B848-A358990A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4AF-31DF-410A-B3C5-55631DDC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BAA-E682-4EC0-960A-DB5D1D2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7B2-C8AB-48FE-861B-C35D444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3C1-EB9B-474F-94F5-DDD14ACE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86C-507A-4DB7-8AA9-B2CF67C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8D2-9E93-4EE1-A003-C35646B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DFC-5220-4CC1-A695-6DFE445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322-1935-410F-AB69-E68CB33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463-CF97-4FFF-8C36-9C66BAD537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ener da Silva Fern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268280"/>
            <a:ext cx="461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ciplina: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: Carmen de Souza e Silva Gar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da STE: Maria Sonia Marques de Oliv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5292720" y="1484280"/>
            <a:ext cx="33814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Escola Prof.ª Floriana Lopes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osquito_da_DENGU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333399"/>
                </a:solidFill>
                <a:latin typeface="Arial"/>
              </a:rPr>
              <a:t>NOTÍCIA: Arrast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a terça-feira, 14 de junho, acontece arrastão contra a dengue no Jardim Florence 2. Os trabalhos incluem retirada de criadouros do mosquito e atividades de educação, informação e mobilização social. Na área do CS Integração, ocorre busca ativa de casos suspeitos. Em toda região noroeste, ainda estão sendo trabalhados pontos de risco e imóveis especia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3"/>
          <p:cNvPicPr/>
          <p:nvPr/>
        </p:nvPicPr>
        <p:blipFill>
          <a:blip r:embed="rId1"/>
          <a:stretch/>
        </p:blipFill>
        <p:spPr>
          <a:xfrm>
            <a:off x="4716360" y="1628640"/>
            <a:ext cx="388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engue tipo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nico caso confirmado de Dengue Tipo 4 em Catanduva teve origem em Niterói, no Rio de Janeiro. A afirmação foi feita ontem por Antônio Carlos da Fonte, responsável pela Equipe Municipal de Combate ao Aedes Aegipty (Emcaa). O órgão municipal realizou investigação epidemiológica da origem da contaminação da mulher, moradora da Vila São Luís cuja confirmação do caso foi no dia 15 de abr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osquito_da_DENGUE[1]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rbovi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mente a dengue é a arbovirose mais comum que atinge o homem, sendo responsável por cerca de 100 milhões de casos por anos em população de riscos de 2,5 a 3 bilhões de seres humanos. A febre hemorrágica da dengue (FHD) e sídrome de choque da dengue (SCD) atingem pelo menos 500 mil pessoas por ano, apresentando taxa de mortalidade de até 10% para pacientes hospitalizados e 30% para pacientes não tra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pidemias da forma hemorrágica da doença tem ocorrido na Ásia, a partir da década de 1950, e no sul do Pacífico, na dos 80. Durante a epidemias que ocorreu na Cuba, em 1981, foi relatado o primeiro de caso de dengue hemorrágica, fora do sudeste da Ásia e do Pacífico e o custo estimado da epidemias foi de US$ 103 milh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3:04:53Z</dcterms:created>
  <dc:creator>SEDMS</dc:creator>
  <dc:description/>
  <dc:language>en-US</dc:language>
  <cp:lastModifiedBy>Jorge e Maria</cp:lastModifiedBy>
  <dcterms:modified xsi:type="dcterms:W3CDTF">2011-11-02T22:43:00Z</dcterms:modified>
  <cp:revision>4</cp:revision>
  <dc:subject/>
  <dc:title>Slide 1</dc:title>
</cp:coreProperties>
</file>